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49C8B-715D-474B-AD4C-CA8D16394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C2E91-79E8-4435-8E92-A9A96C3B1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98518-A972-4CAC-98F4-EF9AE94D1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71912-EA15-4621-B944-BF5A6E5E7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E0DFA-2E29-4B4F-8226-5DBA30AB8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31EBC-183F-4327-932C-83D7D1F90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4E8EF-5B89-489F-BA4D-F2B592934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603C0-CE58-476E-BD55-2BE2C83AA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E3A58-5133-49F6-92D8-73D2114E1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52779-49B9-4ECF-B551-0B9A4F3BF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2ECCB-CCED-4325-9E8C-40E500D89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F7A1D-6548-4CA2-9B4C-885E614ED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38E6BE-B94D-4E80-BFC5-4E414D04F6D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65E018-81A3-4413-8C6D-845847482B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ellringer</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000000"/>
                </a:solidFill>
                <a:latin typeface="Calibri"/>
              </a:rPr>
              <a:t>Iceland is a large island in the Atlantic ocean.  Iceland is part of the mid-ocean ridge and contains many volcanoes.  What type of boundary created Iceland? </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deling </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ich of these describes a convergent boundar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wo continental plates colliding, forming a midocean ridg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wo continental plates rubbing against each other, causing earthquak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wo continental plates moving away from each other, forming a rift valle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n oceanic plate subducting under a continental plate, forming a volcanic ar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1</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ich of these describes a transform boundar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n oceanic plate subducting under another oceanic plate, forming a trenc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wo oceanic plates moving away from each other, forming a midocean ridg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wo continental plates colliding, forming a mountain rang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wo continental plates rubbing against each other, causing earthquak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2</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ich of these describes a convergent boundary?</a:t>
            </a:r>
            <a:endParaRPr b="0" lang="en-US" sz="3200" spc="-1" strike="noStrike">
              <a:solidFill>
                <a:srgbClr val="000000"/>
              </a:solidFill>
              <a:latin typeface="Calibri"/>
            </a:endParaRPr>
          </a:p>
          <a:p>
            <a:pPr lvl="1" marL="971640" indent="-514440">
              <a:lnSpc>
                <a:spcPct val="90000"/>
              </a:lnSpc>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wo continental plates moving away from each other, forming a rift valley</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wo oceanic plates rubbing against each other, forming a midocean ridge</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wo continental plates colliding, forming a mountain range</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wo oceanic plates moving away from each other, forming a volcanic arc</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deling</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ke Tanganyika, located in Eastern Africa, is located in a rift valley.  It is the largest rift lake in Africa and the second largest lake by surface area on the continent.  What type of plate interaction could have created Lake Tanganyika?</a:t>
            </a:r>
            <a:endParaRPr b="0" lang="en-US" sz="3000" spc="-1" strike="noStrike">
              <a:solidFill>
                <a:srgbClr val="000000"/>
              </a:solidFill>
              <a:latin typeface="Calibri"/>
            </a:endParaRPr>
          </a:p>
          <a:p>
            <a:pPr lvl="1" marL="971640" indent="-514440">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Subduction</a:t>
            </a:r>
            <a:endParaRPr b="0" lang="en-US" sz="2600" spc="-1" strike="noStrike">
              <a:solidFill>
                <a:srgbClr val="000000"/>
              </a:solidFill>
              <a:latin typeface="Calibri"/>
            </a:endParaRPr>
          </a:p>
          <a:p>
            <a:pPr lvl="1" marL="971640" indent="-514440">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Convergent plates</a:t>
            </a:r>
            <a:endParaRPr b="0" lang="en-US" sz="2600" spc="-1" strike="noStrike">
              <a:solidFill>
                <a:srgbClr val="000000"/>
              </a:solidFill>
              <a:latin typeface="Calibri"/>
            </a:endParaRPr>
          </a:p>
          <a:p>
            <a:pPr lvl="1" marL="971640" indent="-514440">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Divergent plates</a:t>
            </a:r>
            <a:endParaRPr b="0" lang="en-US" sz="2600" spc="-1" strike="noStrike">
              <a:solidFill>
                <a:srgbClr val="000000"/>
              </a:solidFill>
              <a:latin typeface="Calibri"/>
            </a:endParaRPr>
          </a:p>
          <a:p>
            <a:pPr lvl="1" marL="971640" indent="-514440">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Transverse plat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3</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Red Sea is a narrow sea between the African and Arabian plates.  The Red Sea was created when these continental plates moved away from each other creating a large rift valley. What type of plate boundary could have created the Red Sea?</a:t>
            </a:r>
            <a:endParaRPr b="0" lang="en-US" sz="30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Convergent boundary</a:t>
            </a:r>
            <a:endParaRPr b="0" lang="en-US" sz="26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Divergent boundary</a:t>
            </a:r>
            <a:endParaRPr b="0" lang="en-US" sz="26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Transform boundary</a:t>
            </a:r>
            <a:endParaRPr b="0" lang="en-US" sz="26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Earthquak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deling</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Alpine fault forms the boundary between the Australian and Pacific plates, along which the two plates slide horizontally past each other.  Scientists classify the Alpine fault as a transform fault.  What is one of the most common effects of a transform fault?</a:t>
            </a:r>
            <a:endParaRPr b="0" lang="en-US" sz="30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Volcanic eruptions</a:t>
            </a:r>
            <a:endParaRPr b="0" lang="en-US" sz="26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Tornadoes</a:t>
            </a:r>
            <a:endParaRPr b="0" lang="en-US" sz="26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Earthquakes</a:t>
            </a:r>
            <a:endParaRPr b="0" lang="en-US" sz="26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Seafloor spreading</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4</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Cascades lie on the boundary between the North American and Juan de Fuca Plate.  The Juan de Fuca Plate subuducted under the North American Plate. What is one of the most common effects of subduction of an oceanic plate under a continental pla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volcanic mountain rang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rift valle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midocean ridg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olcanic islan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deling</a:t>
            </a:r>
            <a:endParaRPr b="0" lang="en-US" sz="4400" spc="-1" strike="noStrike">
              <a:solidFill>
                <a:srgbClr val="000000"/>
              </a:solidFill>
              <a:latin typeface="Calibri"/>
            </a:endParaRPr>
          </a:p>
        </p:txBody>
      </p:sp>
      <p:sp>
        <p:nvSpPr>
          <p:cNvPr id="77" name=""/>
          <p:cNvSpPr txBox="1"/>
          <p:nvPr/>
        </p:nvSpPr>
        <p:spPr>
          <a:xfrm>
            <a:off x="204480" y="1206000"/>
            <a:ext cx="8939160" cy="565164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wo plates composed of rock of different densities meet along a convergent boundary. Which statement describes what will happen where the two plates meet? </a:t>
            </a:r>
            <a:endParaRPr b="0" lang="en-US" sz="30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The plates will collide, and the compression will heat the plates, causing some of the plates to melt and form a rift valley.</a:t>
            </a:r>
            <a:endParaRPr b="0" lang="en-US" sz="26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The plates will converge, causing one plate to subduct underneath the other plate and forming a deep trench along the boundary.</a:t>
            </a:r>
            <a:endParaRPr b="0" lang="en-US" sz="26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The plates will rub against each other, causing shearing and creating fault lines in the interior of the plates.</a:t>
            </a:r>
            <a:endParaRPr b="0" lang="en-US" sz="2600" spc="-1" strike="noStrike">
              <a:solidFill>
                <a:srgbClr val="000000"/>
              </a:solidFill>
              <a:latin typeface="Calibri"/>
            </a:endParaRPr>
          </a:p>
          <a:p>
            <a:pPr lvl="1" marL="971640" indent="-514440">
              <a:lnSpc>
                <a:spcPct val="90000"/>
              </a:lnSpc>
              <a:spcBef>
                <a:spcPts val="649"/>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The plates will collide with neither plate subducting, causing the crust to pile up and form a mountain rang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5</a:t>
            </a:r>
            <a:endParaRPr b="0" lang="en-US" sz="4400" spc="-1" strike="noStrike">
              <a:solidFill>
                <a:srgbClr val="000000"/>
              </a:solidFill>
              <a:latin typeface="Calibri"/>
            </a:endParaRPr>
          </a:p>
        </p:txBody>
      </p:sp>
      <p:sp>
        <p:nvSpPr>
          <p:cNvPr id="79" name=""/>
          <p:cNvSpPr txBox="1"/>
          <p:nvPr/>
        </p:nvSpPr>
        <p:spPr>
          <a:xfrm>
            <a:off x="-360" y="1600200"/>
            <a:ext cx="8967960" cy="4525920"/>
          </a:xfrm>
          <a:prstGeom prst="rect">
            <a:avLst/>
          </a:prstGeom>
          <a:noFill/>
          <a:ln w="0">
            <a:noFill/>
          </a:ln>
        </p:spPr>
        <p:txBody>
          <a:bodyPr anchor="t">
            <a:normAutofit/>
          </a:bodyPr>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wo plates composed of rock of similar density lie along a transform boundary. Which statement describes what will happen where the two plates meet? </a:t>
            </a:r>
            <a:endParaRPr b="0" lang="en-US" sz="2700" spc="-1" strike="noStrike">
              <a:solidFill>
                <a:srgbClr val="000000"/>
              </a:solidFill>
              <a:latin typeface="Calibri"/>
            </a:endParaRPr>
          </a:p>
          <a:p>
            <a:pPr lvl="1" marL="971640" indent="-514440">
              <a:lnSpc>
                <a:spcPct val="80000"/>
              </a:lnSpc>
              <a:spcBef>
                <a:spcPts val="601"/>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plates will rub against each other, causing shearing and creating fault lines in the interior of the plates.</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plates will collide with neither plate subducting, causing the crust to pile up and form a mountain range.</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plates will collide, and the compression will heat the plates, causing some of the plates to melt and form volcanic mountains.</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 plates will rub against each other, causing one plate to subduct underneath the other plate and forming a deep trench along the boundar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deling</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ich of these describes the outcome of the collision between oceanic and oceanic crust?</a:t>
            </a:r>
            <a:endParaRPr b="0" lang="en-US" sz="3200" spc="-1" strike="noStrike">
              <a:solidFill>
                <a:srgbClr val="000000"/>
              </a:solidFill>
              <a:latin typeface="Calibri"/>
            </a:endParaRPr>
          </a:p>
          <a:p>
            <a:pPr lvl="1" marL="971640" indent="-514440">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he two portions of crust will slide past one another, side by side.</a:t>
            </a:r>
            <a:endParaRPr b="0" lang="en-US" sz="2800" spc="-1" strike="noStrike">
              <a:solidFill>
                <a:srgbClr val="000000"/>
              </a:solidFill>
              <a:latin typeface="Calibri"/>
            </a:endParaRPr>
          </a:p>
          <a:p>
            <a:pPr lvl="1" marL="971640" indent="-514440">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he two portions of the crust will collide and pile up.</a:t>
            </a:r>
            <a:endParaRPr b="0" lang="en-US" sz="2800" spc="-1" strike="noStrike">
              <a:solidFill>
                <a:srgbClr val="000000"/>
              </a:solidFill>
              <a:latin typeface="Calibri"/>
            </a:endParaRPr>
          </a:p>
          <a:p>
            <a:pPr lvl="1" marL="971640" indent="-514440">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he two portions of crust will stop moving.</a:t>
            </a:r>
            <a:endParaRPr b="0" lang="en-US" sz="2800" spc="-1" strike="noStrike">
              <a:solidFill>
                <a:srgbClr val="000000"/>
              </a:solidFill>
              <a:latin typeface="Calibri"/>
            </a:endParaRPr>
          </a:p>
          <a:p>
            <a:pPr lvl="1" marL="971640" indent="-514440">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he denser oceanic crust will subduct beneath the other oceanic crust.</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Anticipatory Se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Input – Notes on divergent boudari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Modeling – how to answer complex ques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Guided Practice – team work</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5. Independent Practi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6. Early finishers – mode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7. Clo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P6</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ich of these describes the outcome of the collision between oceanic and continental crust? (DOK 2)</a:t>
            </a:r>
            <a:endParaRPr b="0" lang="en-US" sz="3200" spc="-1" strike="noStrike">
              <a:solidFill>
                <a:srgbClr val="000000"/>
              </a:solidFill>
              <a:latin typeface="Calibri"/>
            </a:endParaRPr>
          </a:p>
          <a:p>
            <a:pPr lvl="1" marL="971640" indent="-514440">
              <a:lnSpc>
                <a:spcPct val="90000"/>
              </a:lnSpc>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he two portions of crust will stop moving.</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he continental crust will subduct beneath the oceanic crust.</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he two portions of crust will slide past one another, side by side.</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he oceanic crust will subduct beneath the continental crus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u="sng">
                <a:solidFill>
                  <a:srgbClr val="000000"/>
                </a:solidFill>
                <a:uFillTx/>
                <a:latin typeface="Calibri"/>
              </a:rPr>
              <a:t>4.4 Independent Practice</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jective</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oday, you will be able to predict the effects of divergent boundaries based on crust type.  You will also be able to answer questions on all types of boundar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g Goal Connection</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80% Maste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u="sng">
                <a:solidFill>
                  <a:srgbClr val="000000"/>
                </a:solidFill>
                <a:uFillTx/>
                <a:latin typeface="Calibri"/>
              </a:rPr>
              <a:t>4.4 Boundary Predi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tinental and Continental</a:t>
            </a:r>
            <a:endParaRPr b="0" lang="en-US" sz="4400" spc="-1" strike="noStrike">
              <a:solidFill>
                <a:srgbClr val="000000"/>
              </a:solidFill>
              <a:latin typeface="Calibri"/>
            </a:endParaRPr>
          </a:p>
        </p:txBody>
      </p:sp>
      <p:sp>
        <p:nvSpPr>
          <p:cNvPr id="51" name=""/>
          <p:cNvSpPr txBox="1"/>
          <p:nvPr/>
        </p:nvSpPr>
        <p:spPr>
          <a:xfrm>
            <a:off x="457200" y="1496880"/>
            <a:ext cx="8229600" cy="4525920"/>
          </a:xfrm>
          <a:prstGeom prst="rect">
            <a:avLst/>
          </a:prstGeom>
          <a:noFill/>
          <a:ln w="0">
            <a:noFill/>
          </a:ln>
        </p:spPr>
        <p:txBody>
          <a:bodyPr anchor="t">
            <a:normAutofit/>
          </a:bodyPr>
          <a:p>
            <a:pPr marL="343080" indent="-343080">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0" spc="-1" strike="noStrike" u="sng">
                <a:solidFill>
                  <a:srgbClr val="000000"/>
                </a:solidFill>
                <a:uFillTx/>
                <a:latin typeface="Calibri"/>
              </a:rPr>
              <a:t>When two continental plates diverge they form a rift valley.</a:t>
            </a:r>
            <a:endParaRPr b="0" lang="en-US" sz="5000" spc="-1" strike="noStrike">
              <a:solidFill>
                <a:srgbClr val="000000"/>
              </a:solidFill>
              <a:latin typeface="Calibri"/>
            </a:endParaRPr>
          </a:p>
        </p:txBody>
      </p:sp>
      <p:pic>
        <p:nvPicPr>
          <p:cNvPr id="52" name="Picture 3" descr=""/>
          <p:cNvPicPr/>
          <p:nvPr/>
        </p:nvPicPr>
        <p:blipFill>
          <a:blip r:embed="rId1"/>
          <a:stretch/>
        </p:blipFill>
        <p:spPr>
          <a:xfrm>
            <a:off x="5156280" y="4011480"/>
            <a:ext cx="3530520" cy="2298960"/>
          </a:xfrm>
          <a:prstGeom prst="rect">
            <a:avLst/>
          </a:prstGeom>
          <a:ln w="0">
            <a:noFill/>
          </a:ln>
        </p:spPr>
      </p:pic>
      <p:pic>
        <p:nvPicPr>
          <p:cNvPr id="53" name="Picture 4" descr=""/>
          <p:cNvPicPr/>
          <p:nvPr/>
        </p:nvPicPr>
        <p:blipFill>
          <a:blip r:embed="rId2"/>
          <a:stretch/>
        </p:blipFill>
        <p:spPr>
          <a:xfrm>
            <a:off x="598320" y="4011480"/>
            <a:ext cx="3973680" cy="27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Oceanic and </a:t>
            </a:r>
            <a:br>
              <a:rPr sz="4000"/>
            </a:br>
            <a:r>
              <a:rPr b="0" lang="en-US" sz="4000" spc="-1" strike="noStrike">
                <a:solidFill>
                  <a:srgbClr val="000000"/>
                </a:solidFill>
                <a:latin typeface="Calibri"/>
              </a:rPr>
              <a:t>Oceanic</a:t>
            </a:r>
            <a:endParaRPr b="0" lang="en-US" sz="4000" spc="-1" strike="noStrike">
              <a:solidFill>
                <a:srgbClr val="000000"/>
              </a:solidFill>
              <a:latin typeface="Calibri"/>
            </a:endParaRPr>
          </a:p>
        </p:txBody>
      </p:sp>
      <p:sp>
        <p:nvSpPr>
          <p:cNvPr id="55" name=""/>
          <p:cNvSpPr txBox="1"/>
          <p:nvPr/>
        </p:nvSpPr>
        <p:spPr>
          <a:xfrm>
            <a:off x="457200" y="1600200"/>
            <a:ext cx="8686800" cy="4525920"/>
          </a:xfrm>
          <a:prstGeom prst="rect">
            <a:avLst/>
          </a:prstGeom>
          <a:noFill/>
          <a:ln w="0">
            <a:noFill/>
          </a:ln>
        </p:spPr>
        <p:txBody>
          <a:bodyPr anchor="t">
            <a:normAutofit/>
          </a:bodyPr>
          <a:p>
            <a:pPr marL="343080" indent="-343080">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600" spc="-1" strike="noStrike" u="sng">
                <a:solidFill>
                  <a:srgbClr val="000000"/>
                </a:solidFill>
                <a:uFillTx/>
                <a:latin typeface="Calibri"/>
              </a:rPr>
              <a:t>When two oceanic plates diverge they form a midocean ridge. </a:t>
            </a:r>
            <a:endParaRPr b="0" lang="en-US" sz="5600" spc="-1" strike="noStrike">
              <a:solidFill>
                <a:srgbClr val="000000"/>
              </a:solidFill>
              <a:latin typeface="Calibri"/>
            </a:endParaRPr>
          </a:p>
          <a:p>
            <a:pPr marL="343080" indent="-343080">
              <a:spcBef>
                <a:spcPts val="1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600" spc="-1" strike="noStrike">
              <a:solidFill>
                <a:srgbClr val="000000"/>
              </a:solidFill>
              <a:latin typeface="Calibri"/>
            </a:endParaRPr>
          </a:p>
        </p:txBody>
      </p:sp>
      <p:pic>
        <p:nvPicPr>
          <p:cNvPr id="56" name="Picture 6" descr=""/>
          <p:cNvPicPr/>
          <p:nvPr/>
        </p:nvPicPr>
        <p:blipFill>
          <a:blip r:embed="rId1"/>
          <a:stretch/>
        </p:blipFill>
        <p:spPr>
          <a:xfrm>
            <a:off x="4964040" y="4508640"/>
            <a:ext cx="4179960" cy="23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form Boundary</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10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u="sng">
                <a:solidFill>
                  <a:srgbClr val="000000"/>
                </a:solidFill>
                <a:uFillTx/>
                <a:latin typeface="Calibri"/>
              </a:rPr>
              <a:t>When two plates of any type lie along a transform boundary, they rub against each other causing shearing, fault lines, and earthquakes.</a:t>
            </a:r>
            <a:endParaRPr b="0" lang="en-US" sz="4300" spc="-1" strike="noStrike">
              <a:solidFill>
                <a:srgbClr val="000000"/>
              </a:solidFill>
              <a:latin typeface="Calibri"/>
            </a:endParaRPr>
          </a:p>
        </p:txBody>
      </p:sp>
      <p:pic>
        <p:nvPicPr>
          <p:cNvPr id="59" name="Picture 3" descr=""/>
          <p:cNvPicPr/>
          <p:nvPr/>
        </p:nvPicPr>
        <p:blipFill>
          <a:blip r:embed="rId1"/>
          <a:stretch/>
        </p:blipFill>
        <p:spPr>
          <a:xfrm>
            <a:off x="6916680" y="3794040"/>
            <a:ext cx="2025720" cy="29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t’s Practice…</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1. What is the effect of two continental plates diverging?</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2. What is the effect of two oceanic plates diverging?</a:t>
            </a:r>
            <a:endParaRPr b="0" lang="en-US" sz="4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3. What are the effects of a transform boundary?</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15:57:36Z</dcterms:created>
  <dc:creator>Caroline Roth</dc:creator>
  <dc:description/>
  <dc:language>en-US</dc:language>
  <cp:lastModifiedBy>Caroline Roth</cp:lastModifiedBy>
  <dcterms:modified xsi:type="dcterms:W3CDTF">2010-11-10T23:32:08Z</dcterms:modified>
  <cp:revision>4</cp:revision>
  <dc:subject/>
  <dc:title>Bellringer</dc:title>
</cp:coreProperties>
</file>